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E39-AF7B-460F-9267-8B9DAEC2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183-CB6E-4FC4-9213-96E3C1E9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13C-6D01-4F9D-B184-781838AD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5C3-77C0-4362-BA0B-87B35488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8AB-584A-4CB5-9874-72689C70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FB0F-BD85-4E5F-8F31-9629B4A1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BA3-4F53-4B8D-B099-21517444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611-2700-4CD8-86E3-8B75224B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3354-E5E2-4E88-9BEE-1E8465E6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60B-7FE5-4335-B782-69F0F28B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FEC-8ACF-423E-BB06-2F0CDE41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C60-E576-4EDA-8D87-0E7CB922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ABF5-4EE7-4DF3-B0C8-2BCBE1E61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genomics data collection, integration, visualizat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s functional genomics (microarray, interaction, localization, etc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 to the original data collected and the integrated data via user friendly web tools and convenient bulk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ta integration and network discovery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45000" cy="383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6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ga Troyanskaya’s la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d Meyers, Adam Wible, Drew Ro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br>
              <a:rPr sz="44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function.princeton.edu/magic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083720" cy="558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82400">
            <a:off x="2209320" y="39510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99600">
            <a:off x="1828800" y="312372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9400">
            <a:off x="1915920" y="4682880"/>
            <a:ext cx="3200400" cy="2286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320040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system around the GMOD database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code to load functional genomics data and associated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urator tool (perl CGI, makes use of  MAGE-stk and chado modules) that loads experimental design information (but not actual data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new schema module to store new typ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d implement software for our specific we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hp version working of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ctual genomics data, via command line and curator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up draft schema module, better integrate it with rest of database, send it around to gmod-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code for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762120"/>
            <a:ext cx="247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GD @ Prince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zur Ra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 Ought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g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a Dolin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ot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762120"/>
            <a:ext cx="242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yanskaya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 W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w R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 Me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ga Troyansk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6:03:17Z</dcterms:created>
  <dc:creator>osX</dc:creator>
  <dc:description/>
  <dc:language>en-US</dc:language>
  <cp:lastModifiedBy>Becket Feierbach</cp:lastModifiedBy>
  <cp:lastPrinted>2005-03-22T22:08:58Z</cp:lastPrinted>
  <dcterms:modified xsi:type="dcterms:W3CDTF">2005-05-15T16:16:38Z</dcterms:modified>
  <cp:revision>65</cp:revision>
  <dc:subject/>
  <dc:title>Utilizing bioinformatics methods and open source packages to create useful functional genomics tools for the research community. </dc:title>
</cp:coreProperties>
</file>